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102-EFBA-4D4A-B187-A403FC97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8000-F6B8-4D13-A2BB-5BB22765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EEE6-B637-4805-88B6-14815F1C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79B-AB23-4CEE-A6C3-82D3172B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C63-48A4-47FA-8328-90ACA3AA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C42-F045-4F8E-A5FB-05F74EF4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5B27-9B8E-4B08-A476-048C85FE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820-27A2-4D25-82DF-B2403116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21EB-BAEA-40CF-AE3B-6BA2B412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111-93EF-47B3-8906-69C3A1A4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610-1BE5-40C7-8285-085F0576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579-E2C3-40D6-A605-CF7DF2C3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827C-DC77-4D3F-9AF5-00E97C6F3A4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KYE Storage Facilities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mount of water we are going to supply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uses about 212L of water a day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mily of 2 adults and 2 children will use 212L*3(2 children use 212L)=636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6L-100L(washing machine)-240L(Bath)-40L(2 times of washing dishes)= 26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families will use 260L*50=13000L a day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000L*14=182000L for two weeks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714840" cy="4210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Contain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51280" y="1413000"/>
            <a:ext cx="4835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- Cylind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 fragile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ylinder’s TSA calculation metho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πr^2 + 2πrh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πr(r+2h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A of the water contain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058760"/>
                <a:gridCol w="1060560"/>
                <a:gridCol w="1200240"/>
                <a:gridCol w="1377720"/>
                <a:gridCol w="1819440"/>
                <a:gridCol w="1712880"/>
              </a:tblGrid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Radius(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Height(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TSA(m^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Volume(m^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Concrete floor($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Total Cost($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1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1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4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0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49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6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3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7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3.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46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7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.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62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94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81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13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ble heigh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Using 2m as the radius of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 gives us the cheapest cost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if we use 2m as the radius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ter container, the height is to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. (14.5m is about the height of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floor of an apartment.) Thus w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 stability rather than cheap cost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ecided to use 3m as the radius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concrete floor, we added 1m margin for every side to make people easy to step on it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s are rounded up to the nearest whole number- To show the clear differences between valu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4457520" cy="39528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Decis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27280" y="1341360"/>
            <a:ext cx="4259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ight- 6.5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us-3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- about 182m^3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cylinder- $2507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cement floor-$320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ost- $5707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od(=grain) Containe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uch food do we have to supply?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dult- eats about 0.25kg of rice a da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ild- Assume that a child will eat the half of the amount an adult eats a da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mily(2 adults, 2 kids)-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s about 0.8kg of rice a da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families for 2 weeks- 0.8kg*50*14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560k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contain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5112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= Rectangul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pris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cm^3= 1ml= 1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kg= 1000cm^3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0kg= 560000cm^3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= 0.56m^3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40194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A of the contain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68360" y="2205000"/>
          <a:ext cx="8229600" cy="3019320"/>
        </p:xfrm>
        <a:graphic>
          <a:graphicData uri="http://schemas.openxmlformats.org/drawingml/2006/table">
            <a:tbl>
              <a:tblPr/>
              <a:tblGrid>
                <a:gridCol w="882720"/>
                <a:gridCol w="884160"/>
                <a:gridCol w="1000080"/>
                <a:gridCol w="1149480"/>
                <a:gridCol w="1515960"/>
                <a:gridCol w="1428840"/>
                <a:gridCol w="136836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Length(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Width(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Height(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TSA(m^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Volume(m^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Concrete floor($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Total cost($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0.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3.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0.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0.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3.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0.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3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4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ble shap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We chose rectangular prism for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 of the container, because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 of rice is shaped like a rectang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smoother edges). Si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ular shape is easy to conta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ular objects, the pack of rice 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easily in the rectangular shap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ed up to the nearest whole number- Shows a clear change between two values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loor- Water container needs a steel floor to contain water (liquid), but steel floor is not needed to contain rice (solid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oncrete floor, we only added 0.5m margin each for every side, since the size of the container is very small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decis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, height= 1m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th= 0.56m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loo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= 0.56m^3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the prism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the concrete floo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39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cost≒ $4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Picture 8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3600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du.me.go.kr/env2/index.htm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ipco.com.sg/watter.ht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iedmontsub.com/Gville.shtm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foodmixers.com/models_vessels.as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tion about wate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2205000"/>
          <a:ext cx="8229600" cy="1454040"/>
        </p:xfrm>
        <a:graphic>
          <a:graphicData uri="http://schemas.openxmlformats.org/drawingml/2006/table">
            <a:tbl>
              <a:tblPr/>
              <a:tblGrid>
                <a:gridCol w="1957320"/>
                <a:gridCol w="1030320"/>
                <a:gridCol w="1031760"/>
                <a:gridCol w="1030320"/>
                <a:gridCol w="1032120"/>
                <a:gridCol w="1190520"/>
                <a:gridCol w="957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Sw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Nether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Amount of water(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3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3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93"/>
          <p:cNvSpPr/>
          <p:nvPr/>
        </p:nvSpPr>
        <p:spPr>
          <a:xfrm>
            <a:off x="468360" y="3716280"/>
            <a:ext cx="828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chart from Ministry of Environment of Kor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du.me.go.kr/env2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olume of water - 1ml = 1cm^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about ric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dult eats approximately 220g of rice a day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lume of cooked rice is twice bigger than raw rice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of rice- 1g = 1cm^3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container in real lif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5733720"/>
            <a:ext cx="829152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ipco.com.sg/watter.ht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piedmontsub.com/Gville.s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4" descr="Water_Tank1"/>
          <p:cNvPicPr/>
          <p:nvPr/>
        </p:nvPicPr>
        <p:blipFill>
          <a:blip r:embed="rId1"/>
          <a:stretch/>
        </p:blipFill>
        <p:spPr>
          <a:xfrm>
            <a:off x="250920" y="1341360"/>
            <a:ext cx="4905360" cy="420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GvilleSteelWaterTank"/>
          <p:cNvPicPr/>
          <p:nvPr/>
        </p:nvPicPr>
        <p:blipFill>
          <a:blip r:embed="rId2"/>
          <a:stretch/>
        </p:blipFill>
        <p:spPr>
          <a:xfrm>
            <a:off x="5580000" y="1341360"/>
            <a:ext cx="2359080" cy="4078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932360" y="566100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435640" y="573408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cylindrical 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container in real lif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73372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foodmixers.com/models_vessels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" name="Picture 7" descr="vessel_portable"/>
          <p:cNvPicPr/>
          <p:nvPr/>
        </p:nvPicPr>
        <p:blipFill>
          <a:blip r:embed="rId1"/>
          <a:stretch/>
        </p:blipFill>
        <p:spPr>
          <a:xfrm>
            <a:off x="5219640" y="1700280"/>
            <a:ext cx="2438640" cy="333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vessels_vertical_multiple"/>
          <p:cNvPicPr/>
          <p:nvPr/>
        </p:nvPicPr>
        <p:blipFill>
          <a:blip r:embed="rId2"/>
          <a:stretch/>
        </p:blipFill>
        <p:spPr>
          <a:xfrm>
            <a:off x="1042920" y="1916280"/>
            <a:ext cx="3333960" cy="28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ons and Designs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Containe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uch water are we using per day?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wer- 3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th- 8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 Machine- 10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 Dishes-2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nking Water- about 2.6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shing Toilet- 1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5:28:49Z</dcterms:created>
  <dc:creator>LGE</dc:creator>
  <dc:description/>
  <dc:language>en-US</dc:language>
  <cp:lastModifiedBy>Yeon_Jee_Choi</cp:lastModifiedBy>
  <dcterms:modified xsi:type="dcterms:W3CDTF">2008-12-01T06:09:59Z</dcterms:modified>
  <cp:revision>19</cp:revision>
  <dc:subject/>
  <dc:title>SKYE Storage Facilities</dc:title>
</cp:coreProperties>
</file>